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044-6687-44C7-9238-622D92AA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399-BC76-4C4F-AA11-C93F85D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022-7794-4979-8A62-48BEB8E1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03F-2ACE-4110-9CBC-73F01B28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EE0-27CA-49E5-AA58-FC55EC84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B21-405C-451A-94BE-B6649660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F0D-6799-4F4B-AC43-16B2A102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56A-564A-4302-83FE-C49F619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8A7-C1AE-4D2C-AB86-3CFCC20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507-6743-4B19-8962-FC30F50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ADB-708A-4EE4-B757-C8AD3F3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B4B-4D49-4EAF-9B2B-0E928F4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F61-4AEB-4435-89DE-FD26AAC13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2492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924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avanza en colum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141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278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usca máxima velocidad y un mayor ocultami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3282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efe de Escuadra se ubicará en el punto donde mejor pueda controlar su 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501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445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seguridad se basa, fundamentalmente, en la observ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06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Destacamento de Cabez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716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645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la marcha es planeado en base al empleo futuro de las Un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eg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1773360"/>
            <a:ext cx="360360" cy="43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6480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la seguridad del Pelotón se basa en la observación la Punta no se replegará hacia los flan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encontrarse con resistencia enemiga los elementos del Destacamento de Cabeza atacará sin vacilar al enemigo, contestando el fuego y luego se repliega y ataca hasta neutralizar la acción del enemi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rmas de apoyo son movilizadas hacia posiciones de tiro avan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 el Destacamento de cabeza se ve incapacitada para reducir la resistencia enemiga; la inmoviliza con el fuego y localiza los flancos para informarle al Comandante de la Compañía de Vanguardia para que elabore el plan de ataq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uadra de Fusileros como cabeza de Vanguardia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49560"/>
            <a:ext cx="75614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8:44:56Z</dcterms:created>
  <dc:creator>Bj</dc:creator>
  <dc:description/>
  <dc:language>en-US</dc:language>
  <cp:lastModifiedBy>Bj</cp:lastModifiedBy>
  <dcterms:modified xsi:type="dcterms:W3CDTF">2007-04-06T09:16:55Z</dcterms:modified>
  <cp:revision>2</cp:revision>
  <dc:subject/>
  <dc:title>Conducción del Destacamento de Cabeza.</dc:title>
</cp:coreProperties>
</file>